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B5E-075A-489A-AB2F-1CB4BE4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6CC-71F4-47CF-A227-FA112C3D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EB2-8076-4F15-A83B-82A6A1BB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67A-AA24-4257-AA47-4D4058CF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81F-71B5-4F26-A7A2-A514DA0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EFD-1DF7-4A42-8F47-8028C1C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220-C6B4-4ED7-A1E2-2351F06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588-5384-418B-B050-A24B2539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7E9-B296-467F-A034-438A89D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359-E245-4509-8D4A-CB02CDB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284-FF1F-4AB1-9473-50BFB49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099-9846-4268-B064-2106B910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B479-17C9-4B03-973E-B847A910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2010-11-17_0810strokes.png"/>
          <p:cNvPicPr/>
          <p:nvPr/>
        </p:nvPicPr>
        <p:blipFill>
          <a:blip r:embed="rId1"/>
          <a:stretch/>
        </p:blipFill>
        <p:spPr>
          <a:xfrm>
            <a:off x="838080" y="614520"/>
            <a:ext cx="746784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380880"/>
          <a:ext cx="7848720" cy="5953320"/>
        </p:xfrm>
        <a:graphic>
          <a:graphicData uri="http://schemas.openxmlformats.org/drawingml/2006/table">
            <a:tbl>
              <a:tblPr/>
              <a:tblGrid>
                <a:gridCol w="784080"/>
                <a:gridCol w="785880"/>
                <a:gridCol w="784440"/>
                <a:gridCol w="785520"/>
                <a:gridCol w="784440"/>
                <a:gridCol w="784080"/>
                <a:gridCol w="785880"/>
                <a:gridCol w="784080"/>
                <a:gridCol w="785880"/>
                <a:gridCol w="7844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弯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撇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斜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撇弯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304920"/>
          <a:ext cx="7848720" cy="5922720"/>
        </p:xfrm>
        <a:graphic>
          <a:graphicData uri="http://schemas.openxmlformats.org/drawingml/2006/table">
            <a:tbl>
              <a:tblPr/>
              <a:tblGrid>
                <a:gridCol w="712800"/>
                <a:gridCol w="714240"/>
                <a:gridCol w="712800"/>
                <a:gridCol w="714600"/>
                <a:gridCol w="712800"/>
                <a:gridCol w="714240"/>
                <a:gridCol w="712800"/>
                <a:gridCol w="714240"/>
                <a:gridCol w="712800"/>
                <a:gridCol w="714600"/>
                <a:gridCol w="712800"/>
              </a:tblGrid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折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斜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竖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横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4:31:28Z</dcterms:created>
  <dc:creator>Li</dc:creator>
  <dc:description/>
  <dc:language>en-US</dc:language>
  <cp:lastModifiedBy>Li</cp:lastModifiedBy>
  <dcterms:modified xsi:type="dcterms:W3CDTF">2010-11-24T05:17:54Z</dcterms:modified>
  <cp:revision>8</cp:revision>
  <dc:subject/>
  <dc:title>Slide 1</dc:title>
</cp:coreProperties>
</file>